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A6B1-C9E0-4E06-A378-D0EF8A40B2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YOU EVER WANTED TO KNOW ABOUT HE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YOU EVER WANTED TO KNOW ABOUT HE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Lub Du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Lub Du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is a hollow mus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on the left side of your chest, about the size of your clenched f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divided into four sections called cha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chambers are on the left and right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ide has an upper and lower chamb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hollow musc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located on the left side of your chest, about the size of your clenched f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divided into four sections called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ambers are on the left and right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ide has an upper and lower cha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upper receives blood from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lower pumps blood to the lu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 upper receives blood from the lu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 lower pumps blood to the rest of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upper receives blood from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lower pumps blood to the lu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upper receives blood from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lower pumps blood to the rest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flow in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low in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ow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 are flaps of tissue that stop blood flowing backw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kinds of valves in the hear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kind is the massive valves between the atria and the ventricles, the atrio-ventricular valves, (AV valves) that prevent blood in the ventricles from flowing back into the atr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aps of these valves are attached to the walls of the ventricles by tendons – chordae tendin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 are flaps of tissue that stop blood flowing back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kinds of valves in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kind is the massive valves between the atria and the ventricles, the atrio-ventricular valves, (AV valves) that prevent blood in the ventricles from flowing back into the at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ps of these valves are attached to the walls of the ventricles by tendons – chordae tend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kind of valve is pocket shaped flaps of tissue called the semilunar (half moon) valv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the pulmonary and aortic valves and found at the entrance of the pulmonary artery and aorta respectiv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kind of valve is pocket shaped flaps of tissue called the semilunar (half moon) val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alled the pulmonary and aortic valves and found at the entrance of the pulmonary artery and aorta respe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s the Lub Du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s the Lub Du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DA8-97B6-4F19-A6C4-F2CC7B0E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210-F99F-47B7-AD44-DA471073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3A7-B303-4632-AF62-B081B878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AE7-6EAC-48A3-B2F9-FBC1B393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E5F-21D0-4D3F-9CE8-9983230B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F7A-76E8-4CA8-9599-2C26B71B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67CD-22EB-4553-A109-AB6DC86A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C9F7-8953-4C52-9DC2-9D49EAE7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7BF-DF32-476C-9D16-D43B3A9B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5C7-87BA-4F51-BD9A-8C4C1852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D38-40CF-4B09-A108-7F92AEB4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C0C-9B55-4994-A08F-523FB816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7B64-6B49-459C-8473-00CEB25196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8B02-DACC-42AC-853D-2FC62886E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11548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c00000"/>
                </a:solidFill>
                <a:latin typeface="Calibri"/>
              </a:rPr>
              <a:t>EVERYTHING YOU EVER WANTED TO KNOW ABOUT HEAR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491px-Heart_left-highlight_jon_01_svg.png"/>
          <p:cNvPicPr/>
          <p:nvPr/>
        </p:nvPicPr>
        <p:blipFill>
          <a:blip r:embed="rId1"/>
          <a:stretch/>
        </p:blipFill>
        <p:spPr>
          <a:xfrm>
            <a:off x="6215040" y="4000680"/>
            <a:ext cx="2766960" cy="23968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e Lub Du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atomy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The heart is a hollow musc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t is located on the left side of your chest, about the size of your clenched f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t is divided into four sections called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Two chambers are on the left and right si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Each side has an upper and lower chamb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heart_chambers.jpg"/>
          <p:cNvPicPr/>
          <p:nvPr/>
        </p:nvPicPr>
        <p:blipFill>
          <a:blip r:embed="rId1"/>
          <a:stretch/>
        </p:blipFill>
        <p:spPr>
          <a:xfrm>
            <a:off x="1962000" y="1600200"/>
            <a:ext cx="52200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upper receives blood from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lower pumps blood to the lung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ft upper receives blood from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ft lower pumps blood to the rest of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lood flow in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6" descr="ei_0329.gif"/>
          <p:cNvPicPr/>
          <p:nvPr/>
        </p:nvPicPr>
        <p:blipFill>
          <a:blip r:embed="rId1"/>
          <a:stretch/>
        </p:blipFill>
        <p:spPr>
          <a:xfrm>
            <a:off x="2071800" y="1428840"/>
            <a:ext cx="5357880" cy="43574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low around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EART"/>
          <p:cNvPicPr/>
          <p:nvPr/>
        </p:nvPicPr>
        <p:blipFill>
          <a:blip r:embed="rId1"/>
          <a:stretch/>
        </p:blipFill>
        <p:spPr>
          <a:xfrm>
            <a:off x="2627280" y="1341360"/>
            <a:ext cx="3809880" cy="461016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ves are flaps of tissue that stop blood flowing backw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kinds of valves in the hear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kind is the massive valves between the atria and the ventricles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rio-ventricular valv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(AV valves) that prevent blood in the ventricles from flowing back into the at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laps of these valves are attached to the walls of the ventricles by tendons – chordae tendin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econd kind of valve is pocket shaped flaps of tissue called th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emiluna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half moon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al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are called th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ulmonary and aortic val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found at the entrance of the pulmonary artery and aorta respec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s the Lub Du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2571840" y="1643040"/>
            <a:ext cx="4214880" cy="4500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4:22:27Z</dcterms:created>
  <dc:creator>Corporate Edition</dc:creator>
  <dc:description/>
  <dc:language>en-US</dc:language>
  <cp:lastModifiedBy>LEGION2</cp:lastModifiedBy>
  <dcterms:modified xsi:type="dcterms:W3CDTF">2016-01-14T09:15:29Z</dcterms:modified>
  <cp:revision>13</cp:revision>
  <dc:subject/>
  <dc:title>Slide 1</dc:title>
</cp:coreProperties>
</file>